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C88-862D-4A6C-AF00-76EA9FC0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36B-6161-4695-AAFD-CAF6EF4C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A7D-4416-4D89-9B84-E6676624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49D-8C04-40EC-A2DE-E0E4500E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42F8-70C5-42C3-A0B2-C34F9726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5BA2-1F2E-4779-89A7-5E2ECAE7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D9C4-47E7-4D0E-A800-16A34C09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5048-516A-456C-9D09-9DCC4ADB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BB91-D782-4C9B-9281-84C71000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AC42-5E86-4CE1-8A43-F09B3998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9296-A24A-4F87-8FEF-8EAB1AB3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9EE-19CF-4535-9842-E222BA58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7CE5-DB8D-443A-A6E9-CC5D0B73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AF6C-53BC-4AFA-BABD-CB30C901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2033-0E1D-49E5-9E5D-C93FDEB8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CC19-799B-4EAD-B15E-FFAB2AB5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ECB1-5CFF-4351-8FA8-91DF71EF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34F-C611-42E4-BE4E-EA44E18D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D9E-C3B9-441C-8974-B5BD8FF9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F2B-E37C-4BB2-B781-96F273AF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937-36D5-49DD-A2A6-16799C09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CB5-3754-414F-B3F2-7690A3ED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191-6251-45CF-A5A8-8FFB3BCE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44E-098C-4868-ACDD-6EE47BCD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F760-F487-4309-AB43-74DBF1898C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2153-971E-4174-8BF3-949F75BF73C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“</a:t>
            </a: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Go Tell The Good News”</a:t>
            </a:r>
            <a:br>
              <a:rPr sz="60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art 1</a:t>
            </a:r>
            <a:br>
              <a:rPr sz="4400"/>
            </a:b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The Church Is Scattered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11, Lesson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s 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ges  56-6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lief To Judea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ts 11:27-30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disciples in Antioch were composed of Jews and Genti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generosity was perhaps greater than those saints on the day of Pente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ew and Gentile worked together to help needy Jewish brethren in Jud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re were other churches in Judea besides the church in Jerusalem (Gal.1:2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lief To Judea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ts 11:27-30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rnabas and Saul took the gift to the elders where there was a ne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re is no indication that the church in Jerusalem acted in any sort of supervisory capacity in this mat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eter Defends God’s Grace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ts 11:1-18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ostles and brethren in Judea heard about the Gentiles receiving the word of G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Jews in Jerusalem contended with Peter saying, “You went in to uncircumcised men and ate with them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ter told them of the vision that he received while pray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ter explained to them in detail the events that occurred in Acts 1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eter Defends God’s Grace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ts 11:1-18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ter said the Gentiles had the same gift that he and the apostles had when they believed in Chr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ter said, “Who was I that I could withstand God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en the Jews heard this they became silent and they glorified God, saying, “Then God has also granted to the Gentiles repentance to lif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arnabas And Saul at Antioch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ts 11:19-26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Jewish Christians scattered from persecution after the death of Stephen (Acts 8:1-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traveled as far 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hoeni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ypr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tio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eaching only to the Jews at firs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-1295280" y="-258840"/>
            <a:ext cx="10439280" cy="71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arnabas And Saul at Antioch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ts 11:19-26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fter some time men from Cyprus and Cyrene began to preach to the Gentiles in Antioch of Sy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 a result of the preaching, a great number of people believed and turned to the L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urch at Jerusalem heard of their success and sent Barnabas to Anti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arnabas And Saul at Antioch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ts 11:19-26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ses was named Barnabas (son of encouragement) by the apostles in Acts 4:3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rnabas saw the grace of God and was gl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e encouraged them to continue with the L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rnabas was a good man, full of the Holy  Spirit and of fai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great many people were added to the L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rnabas departed for Tarsus to seek Sau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arnabas And Saul at Antioch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ts 11:19-26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rnabas brought Saul to Anti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continued there for a whole y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ssembled with the church and taught a great many peo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sciples were called Christians first at Anti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rst congregation composed of Jews and Genti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word Christian means one who pertains to Christ or belongs to Chris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lief To Judea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Acts 11:27-30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prophet from Jerusalem named Agabus came from Jerusalem to Anti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gabus prophesied that a severe famine would occur during the reign of Claudius (A.D. 41-5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sciples in Antioch individually decided to send relief to the brethren in Jud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arnabus and Saul delivered their gift to the elders in Jude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1:43:29Z</dcterms:created>
  <dc:creator>robert marshall</dc:creator>
  <dc:description/>
  <dc:language>en-US</dc:language>
  <cp:lastModifiedBy>robert marshall</cp:lastModifiedBy>
  <dcterms:modified xsi:type="dcterms:W3CDTF">2006-11-13T04:51:52Z</dcterms:modified>
  <cp:revision>8</cp:revision>
  <dc:subject/>
  <dc:title>“Go Tell The Good News” Part 1 The Church Is Scatter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73440872</vt:r8>
  </property>
  <property fmtid="{D5CDD505-2E9C-101B-9397-08002B2CF9AE}" pid="3" name="_AuthorEmail">
    <vt:lpwstr>robertdmarshall@bellsouth.net</vt:lpwstr>
  </property>
  <property fmtid="{D5CDD505-2E9C-101B-9397-08002B2CF9AE}" pid="4" name="_AuthorEmailDisplayName">
    <vt:lpwstr>Robert Marshall</vt:lpwstr>
  </property>
  <property fmtid="{D5CDD505-2E9C-101B-9397-08002B2CF9AE}" pid="5" name="_EmailSubject">
    <vt:lpwstr>Q11L10.ppt-revised 11/11</vt:lpwstr>
  </property>
</Properties>
</file>